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DBD0-6365-4B02-BADD-D43E28ECEB7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E86E-8C24-4E6A-BBC6-291B873C6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CACA-8500-49E0-B5C3-3BF33D7FE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F9A-7CB9-4DFA-B7B6-4D3E91C8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F45-2CA5-4E4D-87D6-C3ECBA43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035-D0AB-48B5-AC0F-B4A25E18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0D0-2C6F-4AD2-AEF7-E74EB030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F98F-2E84-47A3-A2E6-9612E8AA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D2FE-1021-4669-9114-C15B1765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B3DA-E8D2-43C3-BF51-21BF1858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ACF7-C7B0-44C5-BBB0-C15C688F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1697-5A35-4150-892E-5C0D5F0B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B5A4-6ABC-4DE5-A0FA-6537EF70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CC5D-F143-4510-BE0F-3DBC75CC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926-A54A-446C-95A8-0F300786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2956-7C43-4CEF-88AD-A54ADBF0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4FA3-40E5-4CA0-8193-A6997A20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CDB7-54CD-4CE1-8FEE-629C4D6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590C-EF0A-486B-A707-DD8C1B7F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D2FB-39D8-43A7-BA3F-793BA6C2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BA674-EAB5-4BE2-931B-34F4F5E5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DC926-9829-4017-A73B-03322F02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E7A5B-F245-496D-9966-15B8FCEA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EAB25-0559-4477-BC4B-9CB3C723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46193-1C5D-43F3-9D98-C5C70398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0A1-834C-4196-91F1-4D3E993A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E0F23-B0E7-4988-94EE-542CF239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A8A13-584C-40B9-8B9B-433CB69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1DF34-A6AE-4643-A0F3-F5F1D409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6FE38-7FEF-44FC-A2D4-90C2A4C1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AA45C-ABA7-479D-9172-445AEB51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32AF1-65FD-4DE6-A305-C3E39237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29E52-5C9E-404E-A84C-D3361A8A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2E35F-4EF8-4167-BC94-CEE90AFF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7E64-7D28-406F-984C-BDC14FDA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EF330-918F-4869-8312-D7B0E54A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0E6-F0A3-41B2-B4A9-E97C4C00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7C85-A949-4DE1-A892-765567DE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2E35-DFF2-42CF-94C1-6B89725E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6CD1D-0619-404D-A629-15837BA8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DAE76-E2A8-49F9-A20F-DB1B989B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93318-2AAD-4F2A-AB04-AA83EC4B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9139B-0F8C-4F33-8B01-7663A4E4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731C-6F44-4526-AAA7-07049E75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506AF-0765-4142-9C37-8CE62C3A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83248-9F4D-4850-A97D-5DBFA357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0F00E-93A8-4A54-AEEB-09472B70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A94-BAA5-4DAD-A25A-C5097769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3C413-A3DB-42F7-AA07-BF01BA7F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CF75B-7038-4E24-8AD2-AA4E6F50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6D586-729D-43AC-8B6E-CC897578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7FA21-7825-4EA2-8D75-61055CA9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0E2E3-1BC0-4393-BAD4-8DA22C83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6B10F-E2E9-4250-B5F0-0B93B225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8199B-4E60-4CA6-82AF-3E142600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A6AAF-6D50-4CC8-B6D9-9AD9165A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03EF1-7BF0-4EC4-8577-9D6F6D6B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2CA80-59A4-40D7-A7F6-CEB07A92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BDC-FF75-4F65-A68F-56F77AA7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A9465-0A37-4744-8986-E39B621B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B2171-2F07-4FCF-BB1E-B9A13F15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65DD7-21A9-4A70-8044-D51B71CD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426BE-EF2D-4B40-82BF-386AC5B7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88F40-6C36-46CE-94E6-552F9E9F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037D5-FD62-48C5-9F50-2524ACFF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696C0-EA38-4398-8FA7-80BBD24F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65E9B-40B0-4DF4-80EE-7E34EE4D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8C162-AF08-4FF6-90BE-9DA47EE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FE7BD-93AB-45FD-9FF4-FF29D164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58F-4C7D-4F5B-9F38-89196AD2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F0298-56F4-492E-8963-14B8362A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4A1D2-8574-45A9-8A9A-84A90A1C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CB57E-A279-409F-899C-BF56B32A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C417ED-5818-4662-B669-E8B8DFC0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09B07-EA87-40BA-9607-EE5817B5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D276A-210A-4E4E-8784-D5FA1172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06A40-58F1-49FF-AD0B-53E78FE2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5E760-03F6-4691-BA65-7FAC116C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E05DB-D6AF-4F22-9C9C-1BA4DEA7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E75B4-904A-42F2-A2DD-5AE7EBC7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A8B-BA7A-4610-8D7A-1FAB552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3A28A-6A85-40EC-B59A-6EBD195A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28164-2814-4708-81CE-D6AC15CC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1457D-C37D-4728-8A4D-D8BAF235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6AB5B-BC57-4AA0-A47A-9468D2F0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0F0C3-645D-4290-9063-2106D0C6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01C-57B4-471A-AF48-10232D73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76F9-87F4-48EE-8DE6-39C2C91A23B5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479A-5552-4207-8375-1D1C01A8D22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95F2-710F-436F-96AF-A8B538450EA7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FB15-AF4C-4F3F-B20C-DA55396FE88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D425-9526-4CED-802A-A3AC4D4C3536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22A8-0384-4481-A520-8CDDB6E364F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BFEF-C2B2-4A4D-AC69-3BAADC9878EC}" type="datetime">
              <a:rPr b="0" lang="en-US" sz="1200" spc="-1" strike="noStrike">
                <a:solidFill>
                  <a:srgbClr val="fff39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B889-C597-4C36-9CF2-B956905A422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6BCF-EA0D-4B30-8B5B-5980AD694484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8112-CFF7-4CC1-AACB-BD256C59B5E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15CC-7BD6-4E57-8862-67CC61E67688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0863-63AE-4CF6-8003-F58C259EC2F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5999-8931-4CDA-ACA4-60C738B54282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6762-E852-41B2-B1F8-5BEC9BD8571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06668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o was Mendel and how did he contribute to the process of scienc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aw a Punnett Square to show the following crosse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35000" indent="-514440">
              <a:lnSpc>
                <a:spcPct val="100000"/>
              </a:lnSpc>
              <a:spcBef>
                <a:spcPts val="700"/>
              </a:spcBef>
              <a:buClr>
                <a:srgbClr val="e0752f"/>
              </a:buClr>
              <a:buSzPct val="6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 X aa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35000" indent="-514440">
              <a:lnSpc>
                <a:spcPct val="100000"/>
              </a:lnSpc>
              <a:spcBef>
                <a:spcPts val="700"/>
              </a:spcBef>
              <a:buClr>
                <a:srgbClr val="e0752f"/>
              </a:buClr>
              <a:buSzPct val="6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 X aa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35000" indent="-514440">
              <a:lnSpc>
                <a:spcPct val="100000"/>
              </a:lnSpc>
              <a:spcBef>
                <a:spcPts val="700"/>
              </a:spcBef>
              <a:buClr>
                <a:srgbClr val="e0752f"/>
              </a:buClr>
              <a:buSzPct val="6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 X A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943600" y="228600"/>
            <a:ext cx="2666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efinition Li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e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 gene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1 gene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2 gene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mina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cess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noty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04560" y="5257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P (parental) gener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true breeding pla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F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 (first filial) gener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offsprin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F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 (second filial) gener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ffspr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Content Placeholder 7" descr="14_03FlowerColorCross_3-L.jpg"/>
          <p:cNvPicPr/>
          <p:nvPr/>
        </p:nvPicPr>
        <p:blipFill>
          <a:blip r:embed="rId1"/>
          <a:stretch/>
        </p:blipFill>
        <p:spPr>
          <a:xfrm>
            <a:off x="2362320" y="108000"/>
            <a:ext cx="43434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Allel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: alternate versions of a ge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Content Placeholder 9" descr="14_04Alleles-L.jpg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43400" y="1371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7 characters in pea plant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Content Placeholder 4" descr="14_T01PeaPlantCharacters-L.jpg"/>
          <p:cNvPicPr/>
          <p:nvPr/>
        </p:nvPicPr>
        <p:blipFill>
          <a:blip r:embed="rId1"/>
          <a:stretch/>
        </p:blipFill>
        <p:spPr>
          <a:xfrm>
            <a:off x="304920" y="76320"/>
            <a:ext cx="3581280" cy="6726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114440" y="274320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Dominan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vs.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Recessi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xpressed) or (hidde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6960" y="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MENDEL</a:t>
            </a:r>
            <a:r>
              <a:rPr b="0" lang="ja-JP" sz="3200" spc="-1" strike="noStrike">
                <a:solidFill>
                  <a:srgbClr val="575f6d"/>
                </a:solidFill>
                <a:latin typeface="Century Schoolbook"/>
              </a:rPr>
              <a:t>’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S PRINCIPL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0520" y="1066680"/>
            <a:ext cx="853452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ternate version of genes (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allel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cause variations in inherited characteristics among offspr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r each character, every organism inherits one allele from each par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f 2 alleles are different, th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dominant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ele will be fully expressed; th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recessive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ele will have no noticeable effect on offspring</a:t>
            </a:r>
            <a:r>
              <a:rPr b="0" lang="ja-JP" sz="28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 appearanc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entury Schoolbook"/>
              </a:rPr>
              <a:t>Law of Segregat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the 2 alleles for each character separate during gamete form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2286000"/>
            <a:ext cx="3657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802"/>
                </a:solidFill>
                <a:latin typeface="Century Schoolbook"/>
              </a:rPr>
              <a:t>Law of Segrega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Content Placeholder 3" descr="14_05LawOfSegregation_3-L.jpg"/>
          <p:cNvPicPr/>
          <p:nvPr/>
        </p:nvPicPr>
        <p:blipFill>
          <a:blip r:embed="rId1"/>
          <a:stretch/>
        </p:blipFill>
        <p:spPr>
          <a:xfrm>
            <a:off x="3936960" y="39600"/>
            <a:ext cx="5130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52280" y="2282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dominan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P),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recessiv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homozygou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2 same alleles (PP or p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heterozygou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2 different alleles (P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Content Placeholder 6" descr="14_06PhenotypeVGenotype-L.jpg"/>
          <p:cNvPicPr/>
          <p:nvPr/>
        </p:nvPicPr>
        <p:blipFill>
          <a:blip r:embed="rId1"/>
          <a:stretch/>
        </p:blipFill>
        <p:spPr>
          <a:xfrm>
            <a:off x="1981080" y="1962000"/>
            <a:ext cx="53578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52280" y="2282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Phenotyp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expressed physical trai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Genotyp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genetic make-u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Content Placeholder 6" descr="14_06PhenotypeVGenotype-L.jpg"/>
          <p:cNvPicPr/>
          <p:nvPr/>
        </p:nvPicPr>
        <p:blipFill>
          <a:blip r:embed="rId1"/>
          <a:stretch/>
        </p:blipFill>
        <p:spPr>
          <a:xfrm>
            <a:off x="1752480" y="1600200"/>
            <a:ext cx="5681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entury Schoolbook"/>
              </a:rPr>
              <a:t>Punnett Squar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066680"/>
            <a:ext cx="746748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ice for predicting offspring from a cro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: Pp x Pp (P=purple, p=whi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533520" y="54864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ic Rat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ic Rat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Testcros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20001"/>
                </a:solidFill>
                <a:latin typeface="Arial"/>
                <a:ea typeface="Arial"/>
              </a:rPr>
              <a:t>determine if dominant trait is homozygous or heterozygous by crossing with recessive (pp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Picture 3" descr="14_07TestCross-L.jpg"/>
          <p:cNvPicPr/>
          <p:nvPr/>
        </p:nvPicPr>
        <p:blipFill>
          <a:blip r:embed="rId1"/>
          <a:stretch/>
        </p:blipFill>
        <p:spPr>
          <a:xfrm>
            <a:off x="1755720" y="1843200"/>
            <a:ext cx="5711760" cy="49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519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Century Schoolbook"/>
              </a:rPr>
              <a:t>Law of Independent Assortment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ach pair of alleles segregates (separates) independently during gamete forma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g. color is separate from shap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4" descr="14_08IndependentAssort-L.jpg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0880" y="914040"/>
            <a:ext cx="830592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ability that the following cross will produce the indicated offspring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R X Rr  -&gt; R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ABB x aabb -&gt; AaB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ABbCc  X  AaBbCc -&gt; AAbb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uple has 2 children, both blonds with brown eyes.  The parents are both brown eyed (BB), one with blond hair (rr) and one red (Rr).  What is the probability the next child is a brown eyed redhe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456840"/>
            <a:ext cx="81532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entury Schoolbook"/>
              </a:rPr>
              <a:t>Monohybrid cros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study 1 charac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g. flower col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entury Schoolbook"/>
              </a:rPr>
              <a:t>Dihybrid cros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study 2 charact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g. flower color &amp; seed shap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2" descr="http://www.anselm.edu/homepage/jpitocch/genbio/indassort.JPG"/>
          <p:cNvPicPr/>
          <p:nvPr/>
        </p:nvPicPr>
        <p:blipFill>
          <a:blip r:embed="rId1"/>
          <a:stretch/>
        </p:blipFill>
        <p:spPr>
          <a:xfrm>
            <a:off x="4495680" y="2590920"/>
            <a:ext cx="3276720" cy="4073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http://mendeliangenetics.weebly.com/uploads/5/3/5/7/5357641/9201039.png?328"/>
          <p:cNvPicPr/>
          <p:nvPr/>
        </p:nvPicPr>
        <p:blipFill>
          <a:blip r:embed="rId2"/>
          <a:stretch/>
        </p:blipFill>
        <p:spPr>
          <a:xfrm>
            <a:off x="990720" y="3352680"/>
            <a:ext cx="30956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entury Schoolbook"/>
              </a:rPr>
              <a:t>Dihybrid Cro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066680"/>
            <a:ext cx="746748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AaBb x AaB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entury Schoolbook"/>
              </a:rPr>
              <a:t>The laws of probability govern Mendelian inherita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153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Rule of Multipli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bability that 2+ independent events will occu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ogeth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n a specific combi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multiply probabilities of each ev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. 1: probability of throwing 2 six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/6 x 1/6 = 1/3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. 2: probability of having 5 boys in a ro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½ x ½ x ½ x ½ x ½ = 1/3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. 3: If cross AABbCc x AaBbCc, probability of offspring with AaBbcc i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Answer: ½ x ½ x ¼ = 1/1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entury Schoolbook"/>
              </a:rPr>
              <a:t>The laws of probability govern Mendelian inherita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153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Rule of Addi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bability that 2+ mutually exclusive events will occ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dd together individual probabil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. 1: chances of throwing a die that will land on 4 or 5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/6 + 1/6 = 1/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Segregation of alleles and fertilization as chance events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3" name="Content Placeholder 3" descr="14_09CoinToss-L.jpg"/>
          <p:cNvPicPr/>
          <p:nvPr/>
        </p:nvPicPr>
        <p:blipFill>
          <a:blip r:embed="rId1"/>
          <a:stretch/>
        </p:blipFill>
        <p:spPr>
          <a:xfrm>
            <a:off x="1790640" y="1600200"/>
            <a:ext cx="48006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Century Schoolbook"/>
              </a:rPr>
              <a:t>Extending Mendelian Gen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04920" y="914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001"/>
                </a:solidFill>
                <a:latin typeface="Arial"/>
              </a:rPr>
              <a:t>The relationship between genotype and phenotype is rare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304920" y="2133720"/>
            <a:ext cx="4800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Complete Domin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heterozygote and homozygote for dominant allele are indistinguish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YY or Yy = yellow s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Incomplete Dominance</a:t>
            </a: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: F</a:t>
            </a:r>
            <a:r>
              <a:rPr b="0" lang="en-US" sz="2600" spc="-1" strike="noStrike" baseline="-25000">
                <a:solidFill>
                  <a:srgbClr val="020001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 hybrids have appearance that is between that of 2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200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Eg. red x white = pink flow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14_10IncompleteDom_3-L.jpg"/>
          <p:cNvPicPr/>
          <p:nvPr/>
        </p:nvPicPr>
        <p:blipFill>
          <a:blip r:embed="rId1"/>
          <a:stretch/>
        </p:blipFill>
        <p:spPr>
          <a:xfrm>
            <a:off x="5181480" y="1620720"/>
            <a:ext cx="3733920" cy="500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29"/>
          <p:cNvSpPr/>
          <p:nvPr/>
        </p:nvSpPr>
        <p:spPr>
          <a:xfrm>
            <a:off x="457200" y="230040"/>
            <a:ext cx="83059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Codominance</a:t>
            </a: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: phenotype of both alleles is expre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200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Eg. red hair x white hairs = roan hor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Multiple Alleles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gene has 2+ alle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200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001"/>
                </a:solidFill>
                <a:latin typeface="Arial"/>
              </a:rPr>
              <a:t>Eg. human ABO blood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14_11ABOBloodGroups-L.jpg"/>
          <p:cNvPicPr/>
          <p:nvPr/>
        </p:nvPicPr>
        <p:blipFill>
          <a:blip r:embed="rId1"/>
          <a:stretch/>
        </p:blipFill>
        <p:spPr>
          <a:xfrm>
            <a:off x="3429000" y="2438280"/>
            <a:ext cx="5334120" cy="43545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4"/>
          <p:cNvSpPr/>
          <p:nvPr/>
        </p:nvSpPr>
        <p:spPr>
          <a:xfrm>
            <a:off x="304920" y="35053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les =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2c16"/>
                </a:solidFill>
                <a:latin typeface="Century Schoolbook"/>
                <a:ea typeface="ＭＳ Ｐゴシック"/>
              </a:rPr>
              <a:t>Blood Typing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609480" y="1600200"/>
          <a:ext cx="7467840" cy="4648320"/>
        </p:xfrm>
        <a:graphic>
          <a:graphicData uri="http://schemas.openxmlformats.org/drawingml/2006/table">
            <a:tbl>
              <a:tblPr/>
              <a:tblGrid>
                <a:gridCol w="3810240"/>
                <a:gridCol w="3657600"/>
              </a:tblGrid>
              <a:tr h="14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h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(Blood Grou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enotype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ype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A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r 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ype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B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r 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ype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ype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2c16"/>
                </a:solidFill>
                <a:latin typeface="Century Schoolbook"/>
                <a:ea typeface="ＭＳ Ｐゴシック"/>
              </a:rPr>
              <a:t>Blood Transfusion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46483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od transfusions must match blood ty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xing of foreign bloo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lump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ea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2c16"/>
                </a:solidFill>
                <a:latin typeface="Century Schoolbook"/>
              </a:rPr>
              <a:t>Rh facto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protein found on RBC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 (Rh+ = has protein, Rh- = no protei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2" descr="http://2.bp.blogspot.com/-qcX7_IAKVgE/TdP02HdQrlI/AAAAAAAAACM/-iObH_Xz_I4/s1600/Blood_Group_Compatibility.gif"/>
          <p:cNvPicPr/>
          <p:nvPr/>
        </p:nvPicPr>
        <p:blipFill>
          <a:blip r:embed="rId1"/>
          <a:stretch/>
        </p:blipFill>
        <p:spPr>
          <a:xfrm>
            <a:off x="2590920" y="838080"/>
            <a:ext cx="35812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  <a:ea typeface="ＭＳ Ｐゴシック"/>
              </a:rPr>
              <a:t>Blood Typing Problem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80773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man who is heterozygous with type A blood marries a woman who is homozygous with type B blood. What possible blood types might their children hav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9140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a test cross? How is it us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 = tongue roller, r = nonroll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would be the genotypic and phenotypic ratios for a cross between a heterozygous tongue roller and a non-rolle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: D = dimples, d = no d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traits would the children of 2 parents (Rrdd and rrDd) hav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943240" y="380520"/>
            <a:ext cx="2895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efinition Li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cro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domin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omin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omplete domin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alle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ygenic trai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digre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9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olygenic Inheritance</a:t>
            </a:r>
            <a:r>
              <a:rPr b="0" lang="en-US" sz="2800" spc="-1" strike="noStrike">
                <a:solidFill>
                  <a:srgbClr val="020001"/>
                </a:solidFill>
                <a:latin typeface="Arial"/>
              </a:rPr>
              <a:t>: the effect of 2 or more genes acting upon a single phenotypic character (eg. skin color, h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14_13PolygenicInherit-L.jpg"/>
          <p:cNvPicPr/>
          <p:nvPr/>
        </p:nvPicPr>
        <p:blipFill>
          <a:blip r:embed="rId1"/>
          <a:stretch/>
        </p:blipFill>
        <p:spPr>
          <a:xfrm>
            <a:off x="1981080" y="1662120"/>
            <a:ext cx="470556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"/>
          <p:cNvSpPr/>
          <p:nvPr/>
        </p:nvSpPr>
        <p:spPr>
          <a:xfrm>
            <a:off x="45720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Nature and Nurture</a:t>
            </a:r>
            <a:r>
              <a:rPr b="0" lang="en-US" sz="2800" spc="-1" strike="noStrike">
                <a:solidFill>
                  <a:srgbClr val="020001"/>
                </a:solidFill>
                <a:latin typeface="Arial"/>
              </a:rPr>
              <a:t>: both </a:t>
            </a:r>
            <a:r>
              <a:rPr b="0" lang="en-US" sz="2800" spc="-1" strike="noStrike" u="sng">
                <a:solidFill>
                  <a:srgbClr val="020001"/>
                </a:solidFill>
                <a:uFillTx/>
                <a:latin typeface="Arial"/>
              </a:rPr>
              <a:t>genetic</a:t>
            </a:r>
            <a:r>
              <a:rPr b="0" lang="en-US" sz="2800" spc="-1" strike="noStrike">
                <a:solidFill>
                  <a:srgbClr val="020001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20001"/>
                </a:solidFill>
                <a:uFillTx/>
                <a:latin typeface="Arial"/>
              </a:rPr>
              <a:t>environmental</a:t>
            </a:r>
            <a:r>
              <a:rPr b="0" lang="en-US" sz="2800" spc="-1" strike="noStrike">
                <a:solidFill>
                  <a:srgbClr val="020001"/>
                </a:solidFill>
                <a:latin typeface="Arial"/>
              </a:rPr>
              <a:t> factors influence 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14_14_EnviroPhenotype-L.jpg"/>
          <p:cNvPicPr/>
          <p:nvPr/>
        </p:nvPicPr>
        <p:blipFill>
          <a:blip r:embed="rId1"/>
          <a:stretch/>
        </p:blipFill>
        <p:spPr>
          <a:xfrm>
            <a:off x="990720" y="1746360"/>
            <a:ext cx="6656400" cy="3365280"/>
          </a:xfrm>
          <a:prstGeom prst="rect">
            <a:avLst/>
          </a:prstGeom>
          <a:ln w="0">
            <a:noFill/>
          </a:ln>
        </p:spPr>
      </p:pic>
      <p:sp>
        <p:nvSpPr>
          <p:cNvPr id="432" name="TextBox 5"/>
          <p:cNvSpPr/>
          <p:nvPr/>
        </p:nvSpPr>
        <p:spPr>
          <a:xfrm>
            <a:off x="533520" y="5105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angea flowers vary in shade and intensity of color depending on acidity and aluminum content of the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533520" y="228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2c16"/>
                </a:solidFill>
                <a:latin typeface="Arial"/>
              </a:rPr>
              <a:t>Mendelian Inheritance in Huma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533520" y="114300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0"/>
                </a:solidFill>
                <a:uFillTx/>
                <a:latin typeface="Arial"/>
              </a:rPr>
              <a:t>Pedigree</a:t>
            </a: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 that shows the relationship between parents/offspring across 2+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001"/>
                </a:solidFill>
                <a:latin typeface="Arial"/>
              </a:rPr>
              <a:t>Woman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001"/>
                </a:solidFill>
                <a:latin typeface="Arial"/>
              </a:rPr>
              <a:t>Man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001"/>
                </a:solidFill>
                <a:latin typeface="Arial"/>
              </a:rPr>
              <a:t>Trait express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2057400" y="2514600"/>
            <a:ext cx="304920" cy="304920"/>
          </a:xfrm>
          <a:prstGeom prst="ellipse">
            <a:avLst/>
          </a:prstGeom>
          <a:noFill/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1600200" y="2895480"/>
            <a:ext cx="304920" cy="304920"/>
          </a:xfrm>
          <a:prstGeom prst="rect">
            <a:avLst/>
          </a:prstGeom>
          <a:noFill/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7"/>
          <p:cNvSpPr/>
          <p:nvPr/>
        </p:nvSpPr>
        <p:spPr>
          <a:xfrm>
            <a:off x="2849400" y="3244680"/>
            <a:ext cx="304920" cy="304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3382920" y="3244680"/>
            <a:ext cx="304920" cy="304920"/>
          </a:xfrm>
          <a:prstGeom prst="rect">
            <a:avLst/>
          </a:prstGeom>
          <a:solidFill>
            <a:srgbClr val="0d0d0d"/>
          </a:solidFill>
          <a:ln w="38160">
            <a:solidFill>
              <a:srgbClr val="575f6d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1" descr="14_UN07Test_Q18-L.jpg"/>
          <p:cNvPicPr/>
          <p:nvPr/>
        </p:nvPicPr>
        <p:blipFill>
          <a:blip r:embed="rId1"/>
          <a:stretch/>
        </p:blipFill>
        <p:spPr>
          <a:xfrm>
            <a:off x="1828800" y="3733920"/>
            <a:ext cx="5540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Schoolbook"/>
                <a:ea typeface="ＭＳ Ｐゴシック"/>
              </a:rPr>
              <a:t>Pedigree Analy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1" name="Content Placeholder 3" descr="14_15_PedigreeAnalysis-L.jpg"/>
          <p:cNvPicPr/>
          <p:nvPr/>
        </p:nvPicPr>
        <p:blipFill>
          <a:blip r:embed="rId1"/>
          <a:stretch/>
        </p:blipFill>
        <p:spPr>
          <a:xfrm>
            <a:off x="762120" y="1069920"/>
            <a:ext cx="7823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5438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  <a:ea typeface="ＭＳ Ｐゴシック"/>
              </a:rPr>
              <a:t>Genetic Disorder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236196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ystic fibrosis (CF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y-Sachs disea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ckle-cell disea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henylketonuria (PKU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343040" y="2361960"/>
            <a:ext cx="4467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untington</a:t>
            </a:r>
            <a:r>
              <a:rPr b="0" lang="ja-JP" sz="26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 disease (HD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7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Lethal dominant allele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35160" y="1630800"/>
            <a:ext cx="3825000" cy="5673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Schoolbook"/>
              </a:rPr>
              <a:t>Autosomal Recessiv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450320" y="1630800"/>
            <a:ext cx="4053600" cy="5673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Schoolbook"/>
              </a:rPr>
              <a:t>Autosomal Dominan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5" descr="14_UN03Summary_C3-L.jpg"/>
          <p:cNvPicPr/>
          <p:nvPr/>
        </p:nvPicPr>
        <p:blipFill>
          <a:blip r:embed="rId1"/>
          <a:stretch/>
        </p:blipFill>
        <p:spPr>
          <a:xfrm>
            <a:off x="401760" y="466560"/>
            <a:ext cx="834048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14_UN04Summary_C3-L.jpg"/>
          <p:cNvPicPr/>
          <p:nvPr/>
        </p:nvPicPr>
        <p:blipFill>
          <a:blip r:embed="rId1"/>
          <a:stretch/>
        </p:blipFill>
        <p:spPr>
          <a:xfrm>
            <a:off x="520560" y="136440"/>
            <a:ext cx="81028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914040"/>
            <a:ext cx="82296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ability that the following pair will produce the indicated offspring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BBCC  X aabbcc -&gt;  AaBb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BbCc  X  AaBbCc -&gt; AAbb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oss  AaBb  X  Aabb.  What is the probability of A__B__?  That the baby will phenotypically resemble parent 1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m is  A+.  She has 2 children, one is O+ and the other is B-.  (Note: Rh+ is RR or Rr, and Rh- is rr) What are the father’s possible genotyp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33520" y="1294920"/>
            <a:ext cx="815328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ies Jane (blood type B), John (blood type O), and Joe (blood type AB) were mixed up in the hospital. Who are their parent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ple #1: A, 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ple #2: A,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ple #3: B,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h. 14 Warm-U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066680"/>
            <a:ext cx="807732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ystic Fibrosis is an autosomal recessive disorder. What are the chances that 2 carriers for this disease will have a child with CF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untington’s Disease is an autosomal dominant disorder. If a woman with this disease marries a normal man, what are the chances that their children will have the diseas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entury Schoolbook"/>
              </a:rPr>
              <a:t>MENDEL AND THE GENE IDE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66f"/>
                </a:solidFill>
                <a:latin typeface="Century Schoolbook"/>
              </a:rPr>
              <a:t>CHAPTER 14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3" descr="14_01Mendel-L.jpg"/>
          <p:cNvPicPr/>
          <p:nvPr/>
        </p:nvPicPr>
        <p:blipFill>
          <a:blip r:embed="rId1"/>
          <a:stretch/>
        </p:blipFill>
        <p:spPr>
          <a:xfrm>
            <a:off x="2514600" y="584280"/>
            <a:ext cx="44956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YOU NEED TO KNOW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03280" y="1828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erms associated with genetics problems: P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dominant, recessive, homozygous, heterozygous, phenotype, genotyp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ow to derive the proper gametes when working a genetics problem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difference between an allele and a gen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ow to read a pedigre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Gregor Mendel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066680"/>
            <a:ext cx="579132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ustrian mon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rought experimental and quantitative approach to genetic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red pea plants to study inhertan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y pea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Control mating (self- vs. cross-pollination)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any varieties availabl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hort generation tim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509920" cy="3129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14_02aCrossingPeaPlants-L.jpg"/>
          <p:cNvPicPr/>
          <p:nvPr/>
        </p:nvPicPr>
        <p:blipFill>
          <a:blip r:embed="rId2"/>
          <a:stretch/>
        </p:blipFill>
        <p:spPr>
          <a:xfrm>
            <a:off x="5846760" y="3581280"/>
            <a:ext cx="32972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21:45:49Z</dcterms:created>
  <dc:creator>Jackie</dc:creator>
  <dc:description/>
  <dc:language>en-US</dc:language>
  <cp:lastModifiedBy>local</cp:lastModifiedBy>
  <dcterms:modified xsi:type="dcterms:W3CDTF">2013-12-05T21:16:43Z</dcterms:modified>
  <cp:revision>72</cp:revision>
  <dc:subject/>
  <dc:title>MENDEL AND THE GENE IDEA</dc:title>
</cp:coreProperties>
</file>